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7209-0D56-414A-A362-75DFB48B8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6D5C-8071-4574-B9B4-ABDF00310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6342-A0CA-4C3C-91F5-95ED15FE1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B83E-BAFA-414A-BD46-904FF5E29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D76D-86B5-47FB-B9AB-E745720A0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44B8-4367-4B52-A15E-54FE91AD6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9E76-DBE7-4C4E-BD17-2930BFC46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AFD5-A788-459E-BA72-F2FD6EA6C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0D4B-459D-433E-9CC4-655A1A81D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BECB-43BF-48E5-B35C-828AB08AB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9B17-E1F9-428B-9E9D-4FAB87AC2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2DFC-640F-4D79-AEE8-81956E5F9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90E88-1D6E-4CB6-B31A-059A611A71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23451070cXNiyMwIsJ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1120" y="0"/>
            <a:ext cx="61333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ما أَجمَلَ أن نَجْتَمِعَ معا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 بِالحُبِّ يَقولُ الربُّ لنا</a:t>
            </a:r>
            <a:br>
              <a:rPr sz="3200"/>
            </a:b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    ما اجتَمعَ باسمي اثنانِ معاً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إلاّ وهُنَاكَ أكونُ أنا(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2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319920" y="1981080"/>
            <a:ext cx="50619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يا رب تعال الآن هنا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   نَدْعوكَ تعالَ وكُنْ مَعَنا</a:t>
            </a:r>
            <a:br>
              <a:rPr sz="3200"/>
            </a:b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مِنْ روحِكَ املأنا فرحاً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وسَلاماً لايعطيهِ غِنَا(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2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67160" y="4572000"/>
            <a:ext cx="49932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إذ أنت لنا عونٌ وسَنَد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  في كُلِّ طريقٍ نَسْلُكُهُ</a:t>
            </a:r>
            <a:br>
              <a:rPr sz="3200"/>
            </a:b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	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وَصديقٌ ليسَ سواه نج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نُعطيهِ القَلْبَ نملّكُهُ  (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2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23931661wAIAZzQGtM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684840" y="0"/>
            <a:ext cx="2781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الربُّ هُن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دَوماً مَعَن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ما أجمَلُهُ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ما أسعَدَنا</a:t>
            </a:r>
            <a:br>
              <a:rPr sz="3200"/>
            </a:b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سَنُكَلّمهُ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سَيَسْمعُن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سَيَبقى لنا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فينا ومَعَنا(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2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438280" y="5562720"/>
            <a:ext cx="6443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يا رب تعال الآن هنا    نَدْعوكَ تعالَ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كُنْ مَعَنا</a:t>
            </a:r>
            <a:br>
              <a:rPr sz="3200"/>
            </a:b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مِنْ روحِكَ املأنا فرحاً     وسَلاماً لايعطيهِ غِنَا(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2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0T15:36:08Z</dcterms:created>
  <dc:creator>USER</dc:creator>
  <dc:description/>
  <dc:language>en-US</dc:language>
  <cp:lastModifiedBy>USER</cp:lastModifiedBy>
  <dcterms:modified xsi:type="dcterms:W3CDTF">2002-10-30T15:38:51Z</dcterms:modified>
  <cp:revision>1</cp:revision>
  <dc:subject/>
  <dc:title>PowerPoint Presentation</dc:title>
</cp:coreProperties>
</file>